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C13F-0E6F-4577-9310-0BA42162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042-9A51-4F00-9550-66CBA5EA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C16-186F-4BF9-99CF-49E72D9E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6D0-FD5A-4EA7-8C24-EC5FD35F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CA9-FA5A-4D48-B88A-EB8C9E61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E5C-40D3-4A9A-9C67-D5299574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4B4-73B0-4BD9-880F-A0120687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DE07-5723-4293-A5C5-853FB6BD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389D-6B0C-4BFD-B3F6-CC0ACF1A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3B56-11CD-466C-9FB6-B6BB8DE9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05F2-0967-4383-9946-A3884E9E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6E8-9E64-4B60-9C75-FDBC86DA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388-87B4-45B5-AA25-D42B85C4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900" spc="-1" strike="noStrike">
                <a:solidFill>
                  <a:srgbClr val="000000"/>
                </a:solidFill>
                <a:latin typeface="Arial"/>
              </a:rPr>
              <a:t>(Aerobic)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process that releases energy from foo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Cellular Respiration take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tochondria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Cellular Respir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in the presence of oxygen (aerob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Cellular Respiration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+   6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------------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6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 +  36 - 38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glucose molecule + 6 oxyge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water molecules  + 6 carbon dioxide molecules + 36 - 38 ATP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Cellular Respir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efficient; provides lots of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  slow &amp; complicat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9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4:19:32Z</dcterms:created>
  <dc:creator>Clayton Johns</dc:creator>
  <dc:description/>
  <dc:language>en-US</dc:language>
  <cp:lastModifiedBy>NHS NPS</cp:lastModifiedBy>
  <dcterms:modified xsi:type="dcterms:W3CDTF">2013-11-07T16:50:57Z</dcterms:modified>
  <cp:revision>4</cp:revision>
  <dc:subject/>
  <dc:title>Cellular Respiration</dc:title>
</cp:coreProperties>
</file>